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png" ContentType="image/png"/>
  <Override PartName="/ppt/media/image33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29.wmf" ContentType="image/x-wmf"/>
  <Override PartName="/ppt/media/image1.png" ContentType="image/png"/>
  <Override PartName="/ppt/media/image19.jpeg" ContentType="image/jpeg"/>
  <Override PartName="/ppt/media/image26.wmf" ContentType="image/x-wmf"/>
  <Override PartName="/ppt/media/image15.jpeg" ContentType="image/jpeg"/>
  <Override PartName="/ppt/media/image25.wmf" ContentType="image/x-wmf"/>
  <Override PartName="/ppt/media/image3.jpeg" ContentType="image/jpeg"/>
  <Override PartName="/ppt/media/image37.jpeg" ContentType="image/jpeg"/>
  <Override PartName="/ppt/media/image2.jpeg" ContentType="image/jpeg"/>
  <Override PartName="/ppt/media/image18.wmf" ContentType="image/x-wmf"/>
  <Override PartName="/ppt/media/image4.jpeg" ContentType="image/jpeg"/>
  <Override PartName="/ppt/media/image38.wmf" ContentType="image/x-wmf"/>
  <Override PartName="/ppt/media/image40.png" ContentType="image/png"/>
  <Override PartName="/ppt/media/image20.wmf" ContentType="image/x-wmf"/>
  <Override PartName="/ppt/media/image57.wmf" ContentType="image/x-wmf"/>
  <Override PartName="/ppt/media/image5.jpeg" ContentType="image/jpeg"/>
  <Override PartName="/ppt/media/image48.wmf" ContentType="image/x-wmf"/>
  <Override PartName="/ppt/media/image10.jpeg" ContentType="image/jpeg"/>
  <Override PartName="/ppt/media/image54.wmf" ContentType="image/x-wmf"/>
  <Override PartName="/ppt/media/image6.jpeg" ContentType="image/jpeg"/>
  <Override PartName="/ppt/media/image58.wmf" ContentType="image/x-wmf"/>
  <Override PartName="/ppt/media/image16.wmf" ContentType="image/x-wmf"/>
  <Override PartName="/ppt/media/image14.jpeg" ContentType="image/jpeg"/>
  <Override PartName="/ppt/media/image44.jpeg" ContentType="image/jpeg"/>
  <Override PartName="/ppt/media/image17.wmf" ContentType="image/x-wmf"/>
  <Override PartName="/ppt/media/image45.wmf" ContentType="image/x-wmf"/>
  <Override PartName="/ppt/media/image49.wmf" ContentType="image/x-wmf"/>
  <Override PartName="/ppt/media/image51.wmf" ContentType="image/x-wmf"/>
  <Override PartName="/ppt/media/image39.wmf" ContentType="image/x-wmf"/>
  <Override PartName="/ppt/media/image41.png" ContentType="image/png"/>
  <Override PartName="/ppt/media/image52.wmf" ContentType="image/x-wmf"/>
  <Override PartName="/ppt/media/image7.png" ContentType="image/png"/>
  <Override PartName="/ppt/media/image53.wmf" ContentType="image/x-wmf"/>
  <Override PartName="/ppt/media/image8.png" ContentType="image/png"/>
  <Override PartName="/ppt/media/image43.wmf" ContentType="image/x-wmf"/>
  <Override PartName="/ppt/media/image13.jpeg" ContentType="image/jpeg"/>
  <Override PartName="/ppt/media/image55.wmf" ContentType="image/x-wmf"/>
  <Override PartName="/ppt/media/image56.wmf" ContentType="image/x-wmf"/>
  <Override PartName="/ppt/media/image46.wmf" ContentType="image/x-wmf"/>
  <Override PartName="/ppt/media/image59.png" ContentType="image/png"/>
  <Override PartName="/ppt/media/image36.wmf" ContentType="image/x-wmf"/>
  <Override PartName="/ppt/media/image50.wmf" ContentType="image/x-wmf"/>
  <Override PartName="/ppt/media/image35.jpeg" ContentType="image/jpeg"/>
  <Override PartName="/ppt/media/image34.wmf" ContentType="image/x-wmf"/>
  <Override PartName="/ppt/media/image32.wmf" ContentType="image/x-wmf"/>
  <Override PartName="/ppt/media/image31.jpeg" ContentType="image/jpeg"/>
  <Override PartName="/ppt/media/image47.wmf" ContentType="image/x-wmf"/>
  <Override PartName="/ppt/media/image30.jpeg" ContentType="image/jpeg"/>
  <Override PartName="/ppt/media/image12.jpeg" ContentType="image/jpeg"/>
  <Override PartName="/ppt/media/image9.png" ContentType="image/png"/>
  <Override PartName="/ppt/media/image42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A9A-971F-415B-A628-B7335906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F85-A05A-4D3D-BFBA-0D53111A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17C74-8CD6-428A-A076-DDBA1B6D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4A39B-60E7-425B-90E5-1120B085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384A6-FFEC-469C-89C0-16FFE0DE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E078C-2675-4AEF-BA15-7ED3636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8D235-CB77-4607-AE9F-81C0B3A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AA7AF-FC6C-4CDC-8B3F-2747A3D1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C4B1A-C2EB-49F7-80AC-EBF1E472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2C74B-541F-4706-BFC6-D1B51C72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43920-BEF2-413F-8487-22DC0077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01150-0299-4FEF-90C7-DF71E89F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BDC-0BDC-46D5-AC81-FF882CEE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92F2D-A109-4EE1-A314-3CC133E4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A8850-C5BD-419D-B593-A5335EF9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D5F67-C391-4F45-B4F2-322DA30B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D7DA5-86C8-4ECF-ABF9-F8FBFE6C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FB064-E8E2-4EF8-A8DE-625C9C82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41406-3E4A-495B-81F5-190F0361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E6149-05F4-4AB5-B3FF-C1B36A3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28079-50F1-41C0-88EA-9FA449F1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649AF-94A9-442B-9ADB-5403E5F6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C9777-3C13-4C09-8AB8-62CEC45F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975-0525-4033-9135-399A6C85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D7AE3-637B-4719-A098-2EC40456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792FC-4C46-43D2-BB9D-D8F0914A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ECAFD-9322-4AE2-BC0C-0814EA36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6D06B-7AAD-4EA2-911D-DB97DE92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B0795-2D76-4549-8F27-BD16A887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FA99A-05CB-4AFC-87FE-03E81CB9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6DB30-B958-422C-9D3A-47D3C6A9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9CB98-2710-454F-85E5-DA2906D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B947B-C486-477A-82C2-29DE30F4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379BC-8C77-42DB-9FA6-9FEBD66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2FCC-5E8A-4B07-A327-B8A5E6C2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80405-5159-4968-8E5E-B77BCFDE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943BF-BA3B-4223-9052-F42FFFCD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17D54-ADED-4156-A5A6-37622D0C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643A-AC77-4525-839C-5F87FE58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22A9-AA58-4415-A723-122F20BC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0DF0-E3B8-4428-BF64-56B17601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8990-CE76-4005-A61C-7AC23756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CEAD-A6F9-4E3A-BE90-AC3818E5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A497-913D-4923-BFCA-00C3729F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169-B537-4E44-BC0E-19099C3E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316E-A399-4B9D-8172-42813A9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2AD4-941E-4172-B362-FB472BE1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8D6A-7F91-46A6-AB9B-B3B1BECE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01C3-7DD1-4994-99B4-15BA5ED5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5696-B3C8-46EA-B46D-91D4A760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4ED7-2516-4E91-91F1-DCCEC80D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13AD5-1386-49CC-8F27-FAB5475B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BFC7-7C37-4782-B03F-A8575E7B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8F19-917C-4A27-A0ED-A1C6A615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91DD3-ECCA-4799-ACB1-CB6B0442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7C4-BEC8-4A1F-9D7A-40675B43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9168-C218-4E8B-8DB1-628791BD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3CAB-C1FB-4C57-AF8A-82A1AE75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1AD1-DA85-4A4C-9BCF-7CF72EAE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E35E5-647B-4BCE-ACC4-90F43048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A37B-C22A-46B1-A4D1-B8186DCC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948E-5D74-4792-A905-076C7232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9A73-748B-49F2-82CA-AC28DBA8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740B-02BE-4943-A783-956BF163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434C1-AF21-4DE9-82A2-3BEB4643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B1F1-0C4D-4DEB-9EEF-D2AB10B3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09A-855B-4FCD-87C7-4FC56AB9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5E99E-228D-4FAC-B081-E27D02AB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D4766-5DF0-4920-9C99-939BB354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C9ED-FF49-46A2-9E73-C6FEF5A8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A9A5A-D7C0-4CD8-ADD8-5159AA6A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A50F6-1444-4062-B7D6-60F27CCE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FC74-3736-4401-B68A-2B1D6438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57B0-751E-4C89-8470-0C6CBC80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8EBE-E754-4876-9175-E633EB37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1FC7F-CB62-439C-B1C5-BC110F72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E2D81-3779-441E-9841-2C0AC348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D27-2D48-43B3-9481-7D472818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96956-F81C-4336-9CEE-4E8EE76E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82B2E-C479-439A-97CC-48186566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563C0-A608-465E-AA48-3894B1B0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6BB1E-112E-4FA3-BAA5-4A75A2BA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8EFA-BE7E-4EB8-A6C7-420FBFED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E4740-DE7B-4455-B4A5-26B374E4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C996C-C4C4-45C9-BC33-1DDCAD41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26D8A-2B07-4A26-AA76-E517C3A4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F245-668A-48A9-B1E4-EFCE4FCC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0D453-4677-453E-8FCE-4F0CBEFF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C0E-9989-4461-81F3-35881907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D0ED7-C873-4F77-ADFE-80BC4B88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FF5AA-450B-4A92-932B-0EEC4E2F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396F8-9CAC-41DE-966D-1DD4DD0B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99598-2BB5-4FA5-B84D-450327A2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66FD6-312F-457A-BB8D-4D26A9AA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95D42-AFD3-465D-AE81-5D4193FE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CA5D6-3C54-4ED5-B095-F3AE6606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BE678-F544-464A-8162-C06F6997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7599C-2C9C-41B0-A647-CA733422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832EC-6F4B-41E8-9C75-22199964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88F-263C-4AEF-B390-1816E867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D311F-6761-4BE6-B8B2-C8A2FD04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38376-754E-46E0-9084-AEFE9C9A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BFEA3-C9AD-4666-8664-BA9616B4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461E5-0E19-44EC-8FB1-E8E39F2F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325BC-E37C-48F0-8688-A257AD6D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532BE-87A0-4E20-8702-2FA5E02C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35B26-F7A7-4867-BFEF-C05F96EA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5D1BB-1DE9-4BAB-8A6D-5CFEF176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F909C-CF55-4F8A-98DA-6A49D66A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028DF-C224-4C13-9FE4-22DA995D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D70-8920-47F5-B157-A83DF15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644D3-A9BC-4F1F-8643-3FA10160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1E099-397B-4DF2-8EC5-3FA7047C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2AF56-08CD-4E1A-B398-CCCDA24A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95632-96C0-4446-862E-F0C90E19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39D6E-C1F4-44C1-BAA4-FFCFD52C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1CB05-7B1D-4DB9-9AFE-CA45AB19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91B4D-4655-4C78-A71D-959DC0D0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37A00-7F53-42A0-8550-8F483AF2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65955-7555-4886-8518-EF669698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0B455-CA01-4DA6-B76F-20D48A67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360-020A-4C8F-A1C5-EC947483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566F5-3123-4246-B962-6CC5486A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348D8-97DF-40A8-883A-EFE3BACD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8B996-3E80-4D09-88BD-0ADD2049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FFF89-C646-491A-B357-CA72FBDA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4B365-8311-4FFA-B4D1-3DE13694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16098-C058-44F3-981F-0AD6E292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F7F9E-2D27-495C-BC91-80D76E93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AA8AD-EB71-4C15-A4B3-5F2F9F8D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42F57-6F8C-43C0-8CDA-190B1F83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B0EFE-4A49-43D8-94B2-D348B6E8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B0D4-597A-40ED-9903-D1F896BA07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32A0-AED0-42E8-9DBF-0682330D30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5FD3-A13C-4770-A62B-CF8FDBD612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6AC7-321D-466F-8213-DC89EE9667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8C47-3F61-4632-A89D-AAA9B5BD99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F075-37C2-42E8-BD4C-41BEB36212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AE33-ED6A-478E-8A59-9B7B3B6254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4584-E146-47E3-90E1-FB6AABE799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056D-5CDF-44CE-BEFC-9B69AD4B83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F153-41AA-4B53-95FE-C791F8C59F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E1EE-21FF-4B4B-932C-F2CD7BE56F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2D5C-705F-4360-9D62-86257657C0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2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53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第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3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章  差分方程与滤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22160" y="172872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1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滤波基础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性、时不变、因果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差分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叠加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5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差分方程流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脉冲响应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阶跃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3840" y="1677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图说明不同类型的滤波器对音频信号滤波，可以获得不同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率分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t4-6a"/>
          <p:cNvPicPr/>
          <p:nvPr/>
        </p:nvPicPr>
        <p:blipFill>
          <a:blip r:embed="rId1"/>
          <a:stretch/>
        </p:blipFill>
        <p:spPr>
          <a:xfrm>
            <a:off x="990720" y="1676520"/>
            <a:ext cx="2412720" cy="19206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t4-6b"/>
          <p:cNvPicPr/>
          <p:nvPr/>
        </p:nvPicPr>
        <p:blipFill>
          <a:blip r:embed="rId2"/>
          <a:stretch/>
        </p:blipFill>
        <p:spPr>
          <a:xfrm>
            <a:off x="5029200" y="990720"/>
            <a:ext cx="3720960" cy="1881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t4-6c"/>
          <p:cNvPicPr/>
          <p:nvPr/>
        </p:nvPicPr>
        <p:blipFill>
          <a:blip r:embed="rId3"/>
          <a:stretch/>
        </p:blipFill>
        <p:spPr>
          <a:xfrm>
            <a:off x="5105520" y="2975040"/>
            <a:ext cx="3657600" cy="1901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t4-6d"/>
          <p:cNvPicPr/>
          <p:nvPr/>
        </p:nvPicPr>
        <p:blipFill>
          <a:blip r:embed="rId4"/>
          <a:stretch/>
        </p:blipFill>
        <p:spPr>
          <a:xfrm>
            <a:off x="928800" y="4643280"/>
            <a:ext cx="3733560" cy="1920960"/>
          </a:xfrm>
          <a:prstGeom prst="rect">
            <a:avLst/>
          </a:prstGeom>
          <a:ln w="0">
            <a:noFill/>
          </a:ln>
        </p:spPr>
      </p:pic>
      <p:sp>
        <p:nvSpPr>
          <p:cNvPr id="482" name="TextBox 8"/>
          <p:cNvSpPr/>
          <p:nvPr/>
        </p:nvSpPr>
        <p:spPr>
          <a:xfrm>
            <a:off x="857160" y="3357720"/>
            <a:ext cx="3071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原始单词“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wo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音频信号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音爆破时的嘈杂中高频（主要是中频成分）和“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oo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的低频周期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4929120" y="2500200"/>
            <a:ext cx="392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低通滤波器衰减了“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的高频频谱成分，选通了“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oo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的低频周期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0"/>
          <p:cNvSpPr/>
          <p:nvPr/>
        </p:nvSpPr>
        <p:spPr>
          <a:xfrm>
            <a:off x="5143680" y="4500720"/>
            <a:ext cx="4000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高通滤波器只保留了 “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的少部分高频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1"/>
          <p:cNvSpPr/>
          <p:nvPr/>
        </p:nvSpPr>
        <p:spPr>
          <a:xfrm>
            <a:off x="5143680" y="5500800"/>
            <a:ext cx="4000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带通滤波器保留了“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的大部分中频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t4-7"/>
          <p:cNvPicPr/>
          <p:nvPr/>
        </p:nvPicPr>
        <p:blipFill>
          <a:blip r:embed="rId1"/>
          <a:stretch/>
        </p:blipFill>
        <p:spPr>
          <a:xfrm>
            <a:off x="1295280" y="2590920"/>
            <a:ext cx="5715000" cy="251460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1640" y="14940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线性、时不变、因果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87280" y="907560"/>
            <a:ext cx="8856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线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统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满足叠加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输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输出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输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输出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则当输入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个输入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之和时，输出为两个输出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之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b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a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b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权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"/>
          <p:cNvSpPr/>
          <p:nvPr/>
        </p:nvSpPr>
        <p:spPr>
          <a:xfrm>
            <a:off x="1714680" y="614376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"/>
          <p:cNvSpPr/>
          <p:nvPr/>
        </p:nvSpPr>
        <p:spPr>
          <a:xfrm>
            <a:off x="1643040" y="57150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79280" y="552600"/>
            <a:ext cx="89647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Tahoma"/>
              </a:rPr>
              <a:t>时不变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系统：什么时间加上输入，输出都是相同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换 句话说 输入延迟，输出延迟相同的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6" descr="t4-8"/>
          <p:cNvPicPr/>
          <p:nvPr/>
        </p:nvPicPr>
        <p:blipFill>
          <a:blip r:embed="rId1"/>
          <a:stretch/>
        </p:blipFill>
        <p:spPr>
          <a:xfrm>
            <a:off x="1805040" y="2349360"/>
            <a:ext cx="5715000" cy="1994040"/>
          </a:xfrm>
          <a:prstGeom prst="rect">
            <a:avLst/>
          </a:prstGeom>
          <a:ln w="0">
            <a:noFill/>
          </a:ln>
        </p:spPr>
      </p:pic>
      <p:sp>
        <p:nvSpPr>
          <p:cNvPr id="493" name="矩形 5"/>
          <p:cNvSpPr/>
          <p:nvPr/>
        </p:nvSpPr>
        <p:spPr>
          <a:xfrm>
            <a:off x="428760" y="421488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因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系统：一个系统在任何时刻的输出只决定于现在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输入以及过去的输入，而与以后的输入无关。也称为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可预测的系统，因为系统的输出无法预测未来的输入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分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79280" y="914400"/>
            <a:ext cx="8507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差分方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可用来描述线性、时不变、因果数字滤波器。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滤波器的输入，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滤波器的输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[n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当前输入，               输出对应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[n-1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前一输入，           输出对应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[n-2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再前一输入，         输出对应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[n-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                                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分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79280" y="914400"/>
            <a:ext cx="8507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差分方程一般表示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[n]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[n-1]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[n-2]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[n-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[n]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[n-1]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[n-2] + …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[n-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바탕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바탕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바탕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바탕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权系数，称为滤波器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所需过去输出的个数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所需以前输入的个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Object 41" descr=""/>
          <p:cNvPicPr/>
          <p:nvPr/>
        </p:nvPicPr>
        <p:blipFill>
          <a:blip r:embed="rId1"/>
          <a:stretch/>
        </p:blipFill>
        <p:spPr>
          <a:xfrm>
            <a:off x="1643040" y="3143160"/>
            <a:ext cx="3213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94920" y="380880"/>
            <a:ext cx="85345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前系数取为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即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其他所有系数除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该数字滤波器的当前输出依赖于输入和过去的输出，称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</a:t>
            </a:r>
            <a:r>
              <a:rPr b="0" lang="zh-CN" sz="2400" spc="-1" strike="noStrike">
                <a:solidFill>
                  <a:srgbClr val="c00000"/>
                </a:solidFill>
                <a:latin typeface="Tahoma"/>
              </a:rPr>
              <a:t>递归滤波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当数字滤波器的当前输出仅依赖于输入而不依赖过去的输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称 其为</a:t>
            </a:r>
            <a:r>
              <a:rPr b="0" lang="zh-CN" sz="2400" spc="-1" strike="noStrike">
                <a:solidFill>
                  <a:srgbClr val="c00000"/>
                </a:solidFill>
                <a:latin typeface="Tahoma"/>
              </a:rPr>
              <a:t>非递归滤波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其表达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Object 6" descr=""/>
          <p:cNvPicPr/>
          <p:nvPr/>
        </p:nvPicPr>
        <p:blipFill>
          <a:blip r:embed="rId1"/>
          <a:stretch/>
        </p:blipFill>
        <p:spPr>
          <a:xfrm>
            <a:off x="1189080" y="857160"/>
            <a:ext cx="7124760" cy="17146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Object 44" descr=""/>
          <p:cNvPicPr/>
          <p:nvPr/>
        </p:nvPicPr>
        <p:blipFill>
          <a:blip r:embed="rId2"/>
          <a:stretch/>
        </p:blipFill>
        <p:spPr>
          <a:xfrm>
            <a:off x="2071800" y="5214960"/>
            <a:ext cx="5286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213840" y="0"/>
            <a:ext cx="8929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面学习差分方程的使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滤波器的差分方程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=0.6y[n-1] +x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确定所有系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它是递归滤波器还是非递归滤波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.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果输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图 所示），从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=0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开始求出前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输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t4-9"/>
          <p:cNvPicPr/>
          <p:nvPr/>
        </p:nvPicPr>
        <p:blipFill>
          <a:blip r:embed="rId1"/>
          <a:stretch/>
        </p:blipFill>
        <p:spPr>
          <a:xfrm>
            <a:off x="2571840" y="3929040"/>
            <a:ext cx="4929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3"/>
          <p:cNvSpPr/>
          <p:nvPr/>
        </p:nvSpPr>
        <p:spPr>
          <a:xfrm>
            <a:off x="0" y="0"/>
            <a:ext cx="9144000" cy="43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差分方程重新改写，输出放在左侧，输入放在右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 – 0.6y[n-1] = x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系数的值很易确定，参照式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-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滤波器的系数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=1.0 , 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=-0.6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1.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外其他所有系数为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642960" y="3929040"/>
            <a:ext cx="80010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于滤波器当前输出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[n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取决于过去的输出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[n-1]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以该数字滤波器是递归滤波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5"/>
          <p:cNvSpPr/>
          <p:nvPr/>
        </p:nvSpPr>
        <p:spPr>
          <a:xfrm>
            <a:off x="357120" y="428760"/>
            <a:ext cx="85010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出可以从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=0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开始，通过反复计算差分方程求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=0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种情况，计算时需要输出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[ -1]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本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中，假定数字滤波器是因果的，这就意味着直到第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个输入不为零时，输出才开始变化，此例中为 </a:t>
            </a: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n=0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。</a:t>
            </a: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所以， </a:t>
            </a: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y[0] 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以前的所有输出可以假定为零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[0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计算出来以后，可以计算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[1]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输出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685800" y="8377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[0] =0.6y[ -1] + x[0] =0.6 x (0.000 0)+1.0 = 1.00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[1] =0.6y[ 0] + x[1] =0.6 x (1.000 0)+1.0 = 1.60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[2] =0.6y[1] + x[2] =0.6 x (1.600 0)+1.0 = 1.96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[3] =0.6y[ 2] + x[3] =0.6 x (1.960 0)+1.0 = 2.175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[4] =0.6y[3] + x[4] =0.6 x (2.1760)+1.0 = 2.30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[5] =0.6y[4] + x[5] =0.6 x (2.3056)+1.0 = 2.38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[6] =0.6y[5] + x[6] =0.6x (2.3834)+1.0 = 2.4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[7] =0.6y[6] + x[7] =0.6 x (2.4300)+1.0 = 2.4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[8] =0.6y[7] + x[8] =0.6 x (2.4580)+1.0 = 2.47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[9] =0.6y[8] + x[9] =0.6 x (2.4748)+1.0 =2.48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第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3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章  差分方程与滤波</a:t>
            </a:r>
            <a:br>
              <a:rPr sz="3600"/>
            </a:br>
            <a:br>
              <a:rPr sz="3600"/>
            </a:b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96880" y="2246040"/>
            <a:ext cx="8229600" cy="3182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滤波的基本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线性、时不变、因果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递归和非递归差分方程实现滤波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叠加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根据差分方程计算滤波器的脉冲响应和阶跃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文本框 1" descr=""/>
          <p:cNvPicPr/>
          <p:nvPr/>
        </p:nvPicPr>
        <p:blipFill>
          <a:blip r:embed="rId1"/>
          <a:stretch/>
        </p:blipFill>
        <p:spPr>
          <a:xfrm>
            <a:off x="2836800" y="1563840"/>
            <a:ext cx="24559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85840" y="357120"/>
            <a:ext cx="88581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输出示于图 。由于输入为一个恒定值，输出最终也趋近一个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定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Object 5" descr=""/>
          <p:cNvPicPr/>
          <p:nvPr/>
        </p:nvPicPr>
        <p:blipFill>
          <a:blip r:embed="rId1"/>
          <a:stretch/>
        </p:blipFill>
        <p:spPr>
          <a:xfrm>
            <a:off x="1143000" y="2357280"/>
            <a:ext cx="597708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-360" y="-360"/>
            <a:ext cx="8591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 = x[n] – 0.7x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确定所有系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它是递归滤波器还是非递归滤波器差分方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.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输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 = sin(nπ/5) u[n],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求出前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输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857160" y="2500200"/>
            <a:ext cx="75438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.0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.0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及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- 0.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928800" y="31431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黑体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于输出不取决于过去的输出，所以数字滤波器是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递归滤波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755640" y="43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于输入中有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[n]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以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=0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前的输入为零。表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1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出了输入和输出的前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值。图给出了输入和输出的图形。注意，虽然两个信号的幅度和相位不同，但它们均具有正弦特性和相同的数字周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rcRect l="28570" t="38962" r="29541" b="27882"/>
          <a:stretch/>
        </p:blipFill>
        <p:spPr>
          <a:xfrm>
            <a:off x="214200" y="500040"/>
            <a:ext cx="8786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Object 13" descr=""/>
          <p:cNvPicPr/>
          <p:nvPr/>
        </p:nvPicPr>
        <p:blipFill>
          <a:blip r:embed="rId1"/>
          <a:stretch/>
        </p:blipFill>
        <p:spPr>
          <a:xfrm>
            <a:off x="1571760" y="214200"/>
            <a:ext cx="4592520" cy="292896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Object 15" descr=""/>
          <p:cNvPicPr/>
          <p:nvPr/>
        </p:nvPicPr>
        <p:blipFill>
          <a:blip r:embed="rId2"/>
          <a:stretch/>
        </p:blipFill>
        <p:spPr>
          <a:xfrm>
            <a:off x="1571760" y="3286080"/>
            <a:ext cx="4929120" cy="3533760"/>
          </a:xfrm>
          <a:prstGeom prst="rect">
            <a:avLst/>
          </a:prstGeom>
          <a:ln w="0">
            <a:noFill/>
          </a:ln>
        </p:spPr>
      </p:pic>
      <p:sp>
        <p:nvSpPr>
          <p:cNvPr id="524" name="TextBox 8"/>
          <p:cNvSpPr/>
          <p:nvPr/>
        </p:nvSpPr>
        <p:spPr>
          <a:xfrm>
            <a:off x="6715080" y="1357200"/>
            <a:ext cx="20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入为周期信号，滤波器输出也为同频的周期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叠加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0920" y="1523880"/>
            <a:ext cx="8642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几个输入同时加到滤波器上，此时滤波器的响应要应用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原理，当滤波器是线性时，多个输入情况较容易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两种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分别计算每一输入的输出，然后把输出加起来得到总的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信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先把所有输入加起来，然后求滤波器对这个和信号的响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57168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滤波器用差分方程描述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 = 0.8x[n] + 0.5x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个输入（如图所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到滤波器上，它们分别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= u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= sin            u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求出两个信号共同产生的前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输出，并画出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4572000" y="2349360"/>
            <a:ext cx="838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714920" y="25718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4572000" y="2349360"/>
            <a:ext cx="609480" cy="533520"/>
          </a:xfrm>
          <a:prstGeom prst="bracketPair">
            <a:avLst>
              <a:gd name="adj" fmla="val 16666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Object 7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3888000" cy="25621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Object 9" descr=""/>
          <p:cNvPicPr/>
          <p:nvPr/>
        </p:nvPicPr>
        <p:blipFill>
          <a:blip r:embed="rId2"/>
          <a:stretch/>
        </p:blipFill>
        <p:spPr>
          <a:xfrm>
            <a:off x="4500720" y="3786120"/>
            <a:ext cx="36432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142920" y="213840"/>
            <a:ext cx="85010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输入为两部分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=u[n]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=sin[n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π/5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每个输入所对应的输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可以单独求出，然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把两个输出相加得到总的输出。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注意输入在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=0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之前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零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计算出的前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输出如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和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输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由下式给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=0.8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+0.5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这样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3]= 0.8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3]+0.5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2]=0.8*1+0.5*1=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输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=0.8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+0.5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213840" y="35712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3]=0.8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3]+0.5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2]=0.8*0.9511+0.5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951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.23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个信号总的输出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+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=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3]+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3]=1.3+1.2364=2.53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把两个输入信号加起来同样可以得到相同的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3]=0.8x[3]+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2]=0.8*1.9511+0.5*(1.95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.53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实际上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+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可以直接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计算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Object 5" descr=""/>
          <p:cNvPicPr/>
          <p:nvPr/>
        </p:nvPicPr>
        <p:blipFill>
          <a:blip r:embed="rId1"/>
          <a:stretch/>
        </p:blipFill>
        <p:spPr>
          <a:xfrm>
            <a:off x="714240" y="1285920"/>
            <a:ext cx="7786800" cy="35719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4"/>
          <p:cNvSpPr/>
          <p:nvPr/>
        </p:nvSpPr>
        <p:spPr>
          <a:xfrm>
            <a:off x="3571920" y="5143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输出信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9" descr=""/>
          <p:cNvPicPr/>
          <p:nvPr/>
        </p:nvPicPr>
        <p:blipFill>
          <a:blip r:embed="rId1"/>
          <a:srcRect l="28017" t="36473" r="28150" b="16278"/>
          <a:stretch/>
        </p:blipFill>
        <p:spPr>
          <a:xfrm>
            <a:off x="324000" y="189000"/>
            <a:ext cx="7783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987640" y="115920"/>
            <a:ext cx="2222640" cy="53352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专业词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755640" y="851040"/>
            <a:ext cx="7772400" cy="5891040"/>
          </a:xfrm>
          <a:prstGeom prst="rect">
            <a:avLst/>
          </a:prstGeom>
          <a:solidFill>
            <a:srgbClr val="e6e6e6"/>
          </a:solidFill>
          <a:ln w="1260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l-off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滚降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in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增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 band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带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 band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阻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带宽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system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线性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sition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叠加原理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invariant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al syste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果系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ce equatio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差分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ter coefficien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滤波器系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ive filter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递归滤波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recursive filter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非递归滤波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te word length effec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限字长效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ulse response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脉冲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inite impulse response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R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无限脉冲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te impulse response (FIR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限脉冲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ng average filter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滑动平均滤波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response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阶跃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分方程流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06632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、非递归差分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c00000"/>
                </a:solidFill>
                <a:latin typeface="Tahoma"/>
              </a:rPr>
              <a:t>延迟单元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延迟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c00000"/>
                </a:solidFill>
                <a:latin typeface="Tahoma"/>
              </a:rPr>
              <a:t>系数乘法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      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c00000"/>
                </a:solidFill>
                <a:latin typeface="Tahoma"/>
              </a:rPr>
              <a:t>加法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+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5562720" y="2209680"/>
            <a:ext cx="914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5"/>
          <p:cNvSpPr/>
          <p:nvPr/>
        </p:nvSpPr>
        <p:spPr>
          <a:xfrm rot="5400000">
            <a:off x="5602320" y="2960640"/>
            <a:ext cx="83160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6"/>
          <p:cNvSpPr/>
          <p:nvPr/>
        </p:nvSpPr>
        <p:spPr>
          <a:xfrm>
            <a:off x="5791320" y="45338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4876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"/>
          <p:cNvSpPr/>
          <p:nvPr/>
        </p:nvSpPr>
        <p:spPr>
          <a:xfrm>
            <a:off x="64771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480060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6477120" y="3419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876920" y="44197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 flipV="1">
            <a:off x="4876920" y="5029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>
            <a:off x="6477120" y="4876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066680" y="228240"/>
            <a:ext cx="7848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前面所讲的一般非递归差分方程，可用流图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t4-15"/>
          <p:cNvPicPr/>
          <p:nvPr/>
        </p:nvPicPr>
        <p:blipFill>
          <a:blip r:embed="rId1"/>
          <a:stretch/>
        </p:blipFill>
        <p:spPr>
          <a:xfrm>
            <a:off x="2362320" y="1523880"/>
            <a:ext cx="4292640" cy="3895920"/>
          </a:xfrm>
          <a:prstGeom prst="rect">
            <a:avLst/>
          </a:prstGeom>
          <a:ln w="0">
            <a:noFill/>
          </a:ln>
        </p:spPr>
      </p:pic>
      <p:pic>
        <p:nvPicPr>
          <p:cNvPr id="557" name="Object 44" descr=""/>
          <p:cNvPicPr/>
          <p:nvPr/>
        </p:nvPicPr>
        <p:blipFill>
          <a:blip r:embed="rId2"/>
          <a:stretch/>
        </p:blipFill>
        <p:spPr>
          <a:xfrm>
            <a:off x="2328840" y="5510160"/>
            <a:ext cx="53434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533160" y="304920"/>
            <a:ext cx="83962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有限字长效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由于处理器有效比特数的有限而产生的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响（量化误差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采取措施减小这些影响的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高阶滤波器分为若干个低阶滤波器块（二阶和一阶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然后将这些滤波器块级联起来，这样平均来说每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阶滤波器块的系数比原高阶滤波器系数大，对量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误差敏感程度较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685800" y="456840"/>
            <a:ext cx="82296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写出下图所示级联滤波器流图的差分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两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阶滤波器块和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阶滤波器块级联（其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+1=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阶高阶滤波器的级联形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t4-19"/>
          <p:cNvPicPr/>
          <p:nvPr/>
        </p:nvPicPr>
        <p:blipFill>
          <a:blip r:embed="rId1"/>
          <a:stretch/>
        </p:blipFill>
        <p:spPr>
          <a:xfrm>
            <a:off x="642960" y="1071720"/>
            <a:ext cx="81342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685800" y="45684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1000080" y="2857680"/>
            <a:ext cx="7772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级的差分方程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n]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n] – 0.1x[n-1] + 0.2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n-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071720" y="4071960"/>
            <a:ext cx="75438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级的差分方程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n]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n] + 0.3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n-1] + 0.1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n-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t4-19"/>
          <p:cNvPicPr/>
          <p:nvPr/>
        </p:nvPicPr>
        <p:blipFill>
          <a:blip r:embed="rId1"/>
          <a:stretch/>
        </p:blipFill>
        <p:spPr>
          <a:xfrm>
            <a:off x="428760" y="0"/>
            <a:ext cx="8358120" cy="2786040"/>
          </a:xfrm>
          <a:prstGeom prst="rect">
            <a:avLst/>
          </a:prstGeom>
          <a:ln w="0">
            <a:noFill/>
          </a:ln>
        </p:spPr>
      </p:pic>
      <p:sp>
        <p:nvSpPr>
          <p:cNvPr id="565" name="矩形 6"/>
          <p:cNvSpPr/>
          <p:nvPr/>
        </p:nvSpPr>
        <p:spPr>
          <a:xfrm>
            <a:off x="1071720" y="5357880"/>
            <a:ext cx="6786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级的差分方程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n]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n] – 0.4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99680" y="571320"/>
            <a:ext cx="82868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第一级的输出等于第二级的输入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第二级的输出等于第三级的输入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可得级联系统总的输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从第三级的差分方程开始，代入第二级的差分方程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– 0.4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– 0.4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+0.3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+0.1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2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0.4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+0.3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2]+0.1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3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– 0.1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 – 0.02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2] – 0.04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28760" y="285840"/>
            <a:ext cx="8534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入第一级的差分方程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n]=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n] – 0.1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1] – 0.02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2] – 0.04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] – 0.1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1] – 0.02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2] – 0.04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3]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] – 0.1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1] – 0.02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2]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0.1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1] – 0.1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2] – 0.02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3]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0.02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2] – 0.1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3] – 0.02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4]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0.04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3] – 0.1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4] – 0.02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5]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] – 0.2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1] – 0.19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2] - 0.058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[n-3] - 0.008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n-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得到总的滤波器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阶高阶滤波器）的差分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比较滤波器系数：高阶滤波器系数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0.058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0.008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等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级联的低阶滤波器系数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0.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验证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阶滤波器块的系数比原高阶滤波器系数大，对量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误差敏感程度较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642600" y="0"/>
            <a:ext cx="8072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Tahoma"/>
              </a:rPr>
              <a:t>、递归差分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直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型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于一般递归滤波器的差分方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画出其流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t4-20"/>
          <p:cNvPicPr/>
          <p:nvPr/>
        </p:nvPicPr>
        <p:blipFill>
          <a:blip r:embed="rId1"/>
          <a:stretch/>
        </p:blipFill>
        <p:spPr>
          <a:xfrm>
            <a:off x="1357200" y="1571760"/>
            <a:ext cx="6929640" cy="3643200"/>
          </a:xfrm>
          <a:prstGeom prst="rect">
            <a:avLst/>
          </a:prstGeom>
          <a:ln w="0">
            <a:noFill/>
          </a:ln>
        </p:spPr>
      </p:pic>
      <p:pic>
        <p:nvPicPr>
          <p:cNvPr id="570" name="Object 6" descr=""/>
          <p:cNvPicPr/>
          <p:nvPr/>
        </p:nvPicPr>
        <p:blipFill>
          <a:blip r:embed="rId2"/>
          <a:stretch/>
        </p:blipFill>
        <p:spPr>
          <a:xfrm>
            <a:off x="1428840" y="5572080"/>
            <a:ext cx="71247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214200" y="213840"/>
            <a:ext cx="8507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   画出如下差分方程所描述的递归数字滤波器的直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型流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+0.5y[n-2]=0.8x[n]+0.1x[n-1] - 0.3x[n-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785880" y="1571760"/>
            <a:ext cx="784836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从方程可知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1.0 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0.5 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0.8 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0.1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- 0.3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差分方程重新排列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[n]= - 0.5y[n-2]+0.8x[n]+0.1x[n-1]–0.3x[n-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以画出流图如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t4-21"/>
          <p:cNvPicPr/>
          <p:nvPr/>
        </p:nvPicPr>
        <p:blipFill>
          <a:blip r:embed="rId1"/>
          <a:stretch/>
        </p:blipFill>
        <p:spPr>
          <a:xfrm>
            <a:off x="2571840" y="3643200"/>
            <a:ext cx="5143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214200" y="0"/>
            <a:ext cx="8431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直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型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它采用中间信号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[n]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代替过去输入和输出，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滤波器历史的重要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定义直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型实现的两个方程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者结合起来构成图 为直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型流图，它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小了过去输入和输出状态的储存，直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型较直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省存储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Object 6" descr=""/>
          <p:cNvPicPr/>
          <p:nvPr/>
        </p:nvPicPr>
        <p:blipFill>
          <a:blip r:embed="rId1"/>
          <a:stretch/>
        </p:blipFill>
        <p:spPr>
          <a:xfrm>
            <a:off x="2500200" y="2428920"/>
            <a:ext cx="4305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1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滤波基础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76160"/>
            <a:ext cx="91440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滤波器：是以特定方式改变信号的频率特性，从而变换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号的系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低通滤波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减少磁带中的高频杂音分量，保留中、低频率分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</a:rPr>
              <a:t>高通滤波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用于声纳系统中消除信号中船和海的低频噪声，来识别目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</a:rPr>
              <a:t>带通滤波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用于数字电话系统中双音多频信号的解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带阻滤波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除特定频带外，允许所有频率通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t4-23"/>
          <p:cNvPicPr/>
          <p:nvPr/>
        </p:nvPicPr>
        <p:blipFill>
          <a:blip r:embed="rId1"/>
          <a:stretch/>
        </p:blipFill>
        <p:spPr>
          <a:xfrm>
            <a:off x="642960" y="285840"/>
            <a:ext cx="7858080" cy="4357440"/>
          </a:xfrm>
          <a:prstGeom prst="rect">
            <a:avLst/>
          </a:prstGeom>
          <a:ln w="0">
            <a:noFill/>
          </a:ln>
        </p:spPr>
      </p:pic>
      <p:pic>
        <p:nvPicPr>
          <p:cNvPr id="579" name="Object 6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7862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3"/>
          <p:cNvSpPr/>
          <p:nvPr/>
        </p:nvSpPr>
        <p:spPr>
          <a:xfrm>
            <a:off x="642960" y="3571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颠倒直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型流图中信息流向，得到转置直接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7" descr="t4-24"/>
          <p:cNvPicPr/>
          <p:nvPr/>
        </p:nvPicPr>
        <p:blipFill>
          <a:blip r:embed="rId1"/>
          <a:stretch/>
        </p:blipFill>
        <p:spPr>
          <a:xfrm>
            <a:off x="1928880" y="1000080"/>
            <a:ext cx="4857840" cy="3000600"/>
          </a:xfrm>
          <a:prstGeom prst="rect">
            <a:avLst/>
          </a:prstGeom>
          <a:ln w="0">
            <a:noFill/>
          </a:ln>
        </p:spPr>
      </p:pic>
      <p:pic>
        <p:nvPicPr>
          <p:cNvPr id="582" name="Object 6" descr=""/>
          <p:cNvPicPr/>
          <p:nvPr/>
        </p:nvPicPr>
        <p:blipFill>
          <a:blip r:embed="rId2"/>
          <a:stretch/>
        </p:blipFill>
        <p:spPr>
          <a:xfrm>
            <a:off x="1000080" y="4429080"/>
            <a:ext cx="7124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2858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、对于下面差分方程，写出直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型实现的方程并画出直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型流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-2y[n-1]+0.5y[n-2]=x[n]-0.4x[n-2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Object 6" descr=""/>
          <p:cNvPicPr/>
          <p:nvPr/>
        </p:nvPicPr>
        <p:blipFill>
          <a:blip r:embed="rId1"/>
          <a:stretch/>
        </p:blipFill>
        <p:spPr>
          <a:xfrm>
            <a:off x="1979640" y="3860640"/>
            <a:ext cx="4305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直接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型实现的两个方程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Object 6" descr=""/>
          <p:cNvPicPr/>
          <p:nvPr/>
        </p:nvPicPr>
        <p:blipFill>
          <a:blip r:embed="rId1"/>
          <a:stretch/>
        </p:blipFill>
        <p:spPr>
          <a:xfrm>
            <a:off x="1116000" y="1357200"/>
            <a:ext cx="7410600" cy="2000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t4-23"/>
          <p:cNvPicPr/>
          <p:nvPr/>
        </p:nvPicPr>
        <p:blipFill>
          <a:blip r:embed="rId2"/>
          <a:stretch/>
        </p:blipFill>
        <p:spPr>
          <a:xfrm>
            <a:off x="1714680" y="3371760"/>
            <a:ext cx="58575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/>
          <a:srcRect l="30831" t="22907" r="26572" b="54633"/>
          <a:stretch/>
        </p:blipFill>
        <p:spPr>
          <a:xfrm>
            <a:off x="1403280" y="2133720"/>
            <a:ext cx="652932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858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、对于下面差分方程，画出转置直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型流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+0.2y[n-1]-0.3 [n-2]=x[n]-0.5x[n-1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7" descr="t4-24"/>
          <p:cNvPicPr/>
          <p:nvPr/>
        </p:nvPicPr>
        <p:blipFill>
          <a:blip r:embed="rId1"/>
          <a:stretch/>
        </p:blipFill>
        <p:spPr>
          <a:xfrm>
            <a:off x="500040" y="1000080"/>
            <a:ext cx="71438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"/>
          <p:cNvPicPr/>
          <p:nvPr/>
        </p:nvPicPr>
        <p:blipFill>
          <a:blip r:embed="rId1"/>
          <a:srcRect l="31057" t="40462" r="26758" b="25990"/>
          <a:stretch/>
        </p:blipFill>
        <p:spPr>
          <a:xfrm>
            <a:off x="714240" y="1214280"/>
            <a:ext cx="71107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脉冲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79520" y="1714320"/>
            <a:ext cx="8664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脉冲响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是滤波器对脉冲输入的响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字滤波器的差分方程可以用来计算滤波器的脉冲响应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输入是脉冲函数，则差分方程的输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用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n]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代替，脉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响应用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表示。脉冲响应反映了滤波器的基本特性，由于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有数字信号可以由脉冲函数构成，所以脉冲响应可用来求各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输入的输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7168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下列差分方程求出脉冲响应的前六个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 – 0.8y[n-1] = 2x[n] – 0.5x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1000080" y="1357200"/>
            <a:ext cx="81439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首先，用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n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代替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代替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 – 0.8h[n-1] =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n] – 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n-1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 = 0.8h[n-1] +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n] – 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=0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开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0] = 0.8h[-1] +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0] -0.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066320" y="457200"/>
            <a:ext cx="7620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t4-1"/>
          <p:cNvPicPr/>
          <p:nvPr/>
        </p:nvPicPr>
        <p:blipFill>
          <a:blip r:embed="rId1"/>
          <a:stretch/>
        </p:blipFill>
        <p:spPr>
          <a:xfrm>
            <a:off x="2209680" y="914400"/>
            <a:ext cx="5029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50004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0] = 0.8*(0.0) +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.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0.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注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-1] = 0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是函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= -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时的值，而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因果性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随后的脉冲响应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1]=0.8h[0]+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1] -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.8*(2.0)+0.0-0.5=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2]=0.8h[1]+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2] -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.8*(1.1)+0.0-0.0=0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3]=0.8h[2]+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3] -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.8*(0.88)+0.0-0.0=0.7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4]=0.8h[3]+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4] -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.8*(0.704)+0.0-0.0=0.5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5]=0.8h[4]+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5] -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.8*(0.5632)+0.0-0.0=0.450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914040" y="457200"/>
            <a:ext cx="7620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脉冲函数和脉冲响应示于下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面右图中 即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后没有输入，虽然脉冲响应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越来越小，但绝不会下降到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这一特性常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递归滤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具有。新的输出取决于过去的输出，所以脉冲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会消失，这个响应称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无限脉冲响应（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IR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Object 5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816360" cy="273348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Object 7" descr=""/>
          <p:cNvPicPr/>
          <p:nvPr/>
        </p:nvPicPr>
        <p:blipFill>
          <a:blip r:embed="rId2"/>
          <a:stretch/>
        </p:blipFill>
        <p:spPr>
          <a:xfrm>
            <a:off x="4859280" y="1071720"/>
            <a:ext cx="3716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08000" y="259920"/>
            <a:ext cx="77724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出下列滤波器脉冲响应的前六个采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=0.2(x[n]+x[n-1]+x[n-2]+x[n-3]+x[n-4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468360" y="1595520"/>
            <a:ext cx="8712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代替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代替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=0.2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2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3]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4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0] = 0.2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1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2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3]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4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2 *(1.0 + 0.0 + 0.0 + 0.0+0.0) = 0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1] = 0.2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1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1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2]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3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2 *(0.0 + 1.0 + 0.0 + 0.0+0.0) = 0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2] = 0.2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2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1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1]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2 *(0.0 + 0.0 + 1.0 + 0.0+0.0) = 0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1066320" y="228240"/>
            <a:ext cx="7620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3] = 0.2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3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2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1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]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2 *(0.0 + 0.0 + 0.0 + 1.0+0.0)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4] = 0.2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4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3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2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1]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2 *(0.0 + 0.0 + 0.0 + 0.0+1.0)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5] = 0.2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5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4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3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2]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2 *(0.0 + 0.0 + 0.0 + 0.0+0.0) = 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显然，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≥ 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时，脉冲响应的所有采样值均为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1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给出了脉冲函数输入和脉冲响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68000" y="228600"/>
            <a:ext cx="84963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面右图中，脉冲响应在有限个非零采样值之后下降到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种响应称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有限脉冲响应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I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非递归滤波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非递归滤波器在计算每一个新输出时，只要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过去输入，脉冲响应变为零所需要的采样点数取决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计算中所用到的过去输入个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3" descr="t4-29a"/>
          <p:cNvPicPr/>
          <p:nvPr/>
        </p:nvPicPr>
        <p:blipFill>
          <a:blip r:embed="rId1"/>
          <a:stretch/>
        </p:blipFill>
        <p:spPr>
          <a:xfrm>
            <a:off x="433440" y="404640"/>
            <a:ext cx="3352680" cy="287208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Object 5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4825800" cy="28526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Object 7" descr=""/>
          <p:cNvPicPr/>
          <p:nvPr/>
        </p:nvPicPr>
        <p:blipFill>
          <a:blip r:embed="rId3"/>
          <a:stretch/>
        </p:blipFill>
        <p:spPr>
          <a:xfrm>
            <a:off x="4794120" y="404640"/>
            <a:ext cx="434988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58560" y="115920"/>
            <a:ext cx="8785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它的脉冲响应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，每个辐度为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差分方程中可看出，这种脉冲响应形式具有对输入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号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采样值进行平均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250920" y="555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∴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这种脉冲响应形式的滤波器，被称为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滑动平均滤波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Object 5" descr=""/>
          <p:cNvPicPr/>
          <p:nvPr/>
        </p:nvPicPr>
        <p:blipFill>
          <a:blip r:embed="rId1"/>
          <a:stretch/>
        </p:blipFill>
        <p:spPr>
          <a:xfrm>
            <a:off x="2428920" y="2357280"/>
            <a:ext cx="434988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0" y="21420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非递归滤波器，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脉冲响应的采样值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出了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差分方程的系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1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[n]=0.2(x[n]+x[n-1]+x[n-2]+x[n-3]+x[n-4]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的差分方程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Object 4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34988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500040" y="357120"/>
            <a:ext cx="8429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具有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非零采样值的脉冲响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可表示为脉冲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之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=h[0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+h[1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h[M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M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非递归差分方程脉冲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=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 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M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式相等 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 = h[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∴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非递归差分方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y[n] = b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x[n] + b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x[n]+…+ b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x[n-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可改写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y[n] = h[0]x[n] + h[1]x[n-1]+…+ h[M]x[n-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250920" y="188640"/>
            <a:ext cx="850248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出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示脉冲响应的滤波器差分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428760" y="421488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脉冲响应可以写成脉冲函数之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+ 0.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[n-1] + 0.1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2]-0.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3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714240" y="53578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分方程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+ 0.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x[n-1] + 0.1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2]-0.3x[n-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7500600" y="214200"/>
            <a:ext cx="1643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由于脉冲响应中非零的采样点数有限，所以差分方程具有有限脉冲响应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Object 7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4608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285840" y="21420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示信号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加到线性滤波器的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端，滤波器的脉冲响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所示。将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入信号分成脉冲函数并求每一个的响应，然后求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波器的输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Object 5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3341880" cy="314928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ject 7" descr=""/>
          <p:cNvPicPr/>
          <p:nvPr/>
        </p:nvPicPr>
        <p:blipFill>
          <a:blip r:embed="rId2"/>
          <a:stretch/>
        </p:blipFill>
        <p:spPr>
          <a:xfrm>
            <a:off x="5076720" y="2565360"/>
            <a:ext cx="354816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066320" y="456840"/>
            <a:ext cx="7620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想滤波器的形状是矩形，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给出非理想滤波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" descr="t4-2a"/>
          <p:cNvPicPr/>
          <p:nvPr/>
        </p:nvPicPr>
        <p:blipFill>
          <a:blip r:embed="rId1"/>
          <a:stretch/>
        </p:blipFill>
        <p:spPr>
          <a:xfrm>
            <a:off x="990720" y="914400"/>
            <a:ext cx="3733560" cy="266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t4-2b"/>
          <p:cNvPicPr/>
          <p:nvPr/>
        </p:nvPicPr>
        <p:blipFill>
          <a:blip r:embed="rId2"/>
          <a:stretch/>
        </p:blipFill>
        <p:spPr>
          <a:xfrm>
            <a:off x="4800600" y="838080"/>
            <a:ext cx="4025880" cy="26672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t4-2c"/>
          <p:cNvPicPr/>
          <p:nvPr/>
        </p:nvPicPr>
        <p:blipFill>
          <a:blip r:embed="rId3"/>
          <a:stretch/>
        </p:blipFill>
        <p:spPr>
          <a:xfrm>
            <a:off x="1066680" y="3505320"/>
            <a:ext cx="3810240" cy="25905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t4-2d"/>
          <p:cNvPicPr/>
          <p:nvPr/>
        </p:nvPicPr>
        <p:blipFill>
          <a:blip r:embed="rId4"/>
          <a:stretch/>
        </p:blipFill>
        <p:spPr>
          <a:xfrm>
            <a:off x="4876920" y="3505320"/>
            <a:ext cx="3962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3"/>
          <p:cNvSpPr/>
          <p:nvPr/>
        </p:nvSpPr>
        <p:spPr>
          <a:xfrm>
            <a:off x="642960" y="28584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示信号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以表示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 =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+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 +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2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857160" y="135720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不同幅度的三个脉冲函数组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2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于脉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响应是脉冲响应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以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响应是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]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类似地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1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响应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-1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바탕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-2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响应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[n-2]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785880" y="4734000"/>
            <a:ext cx="8072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些函数画于图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左面的三个脉冲相加后构成左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输入信号。由于滤波器是线性的，输入端三个脉冲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和将产生三个脉冲响应之和的输出。这个“和”示于图的右下方，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928800" y="2142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 = 3h[n] + 2h[n-1] + h[n-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Object 8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2676600" cy="2471760"/>
          </a:xfrm>
          <a:prstGeom prst="rect">
            <a:avLst/>
          </a:prstGeom>
          <a:ln w="0">
            <a:noFill/>
          </a:ln>
        </p:spPr>
      </p:pic>
      <p:pic>
        <p:nvPicPr>
          <p:cNvPr id="636" name="Object 7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2795400" cy="25192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Object 1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2562120" cy="2381400"/>
          </a:xfrm>
          <a:prstGeom prst="rect">
            <a:avLst/>
          </a:prstGeom>
          <a:ln w="0">
            <a:noFill/>
          </a:ln>
        </p:spPr>
      </p:pic>
      <p:pic>
        <p:nvPicPr>
          <p:cNvPr id="639" name="Object 10" descr=""/>
          <p:cNvPicPr/>
          <p:nvPr/>
        </p:nvPicPr>
        <p:blipFill>
          <a:blip r:embed="rId4"/>
          <a:stretch/>
        </p:blipFill>
        <p:spPr>
          <a:xfrm>
            <a:off x="4356000" y="3933720"/>
            <a:ext cx="2847960" cy="23194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4"/>
          <p:cNvSpPr/>
          <p:nvPr/>
        </p:nvSpPr>
        <p:spPr>
          <a:xfrm>
            <a:off x="0" y="751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Object 2" descr=""/>
          <p:cNvPicPr/>
          <p:nvPr/>
        </p:nvPicPr>
        <p:blipFill>
          <a:blip r:embed="rId1"/>
          <a:stretch/>
        </p:blipFill>
        <p:spPr>
          <a:xfrm>
            <a:off x="785880" y="285840"/>
            <a:ext cx="3409920" cy="3000240"/>
          </a:xfrm>
          <a:prstGeom prst="rect">
            <a:avLst/>
          </a:prstGeom>
          <a:ln w="0">
            <a:noFill/>
          </a:ln>
        </p:spPr>
      </p:pic>
      <p:pic>
        <p:nvPicPr>
          <p:cNvPr id="643" name="Object 1" descr=""/>
          <p:cNvPicPr/>
          <p:nvPr/>
        </p:nvPicPr>
        <p:blipFill>
          <a:blip r:embed="rId2"/>
          <a:stretch/>
        </p:blipFill>
        <p:spPr>
          <a:xfrm>
            <a:off x="4500720" y="285840"/>
            <a:ext cx="3560760" cy="29289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0" y="52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Object 6" descr=""/>
          <p:cNvPicPr/>
          <p:nvPr/>
        </p:nvPicPr>
        <p:blipFill>
          <a:blip r:embed="rId3"/>
          <a:stretch/>
        </p:blipFill>
        <p:spPr>
          <a:xfrm>
            <a:off x="1071720" y="3500280"/>
            <a:ext cx="3425760" cy="2571840"/>
          </a:xfrm>
          <a:prstGeom prst="rect">
            <a:avLst/>
          </a:prstGeom>
          <a:ln w="0">
            <a:noFill/>
          </a:ln>
        </p:spPr>
      </p:pic>
      <p:pic>
        <p:nvPicPr>
          <p:cNvPr id="647" name="Object 5" descr=""/>
          <p:cNvPicPr/>
          <p:nvPr/>
        </p:nvPicPr>
        <p:blipFill>
          <a:blip r:embed="rId4"/>
          <a:stretch/>
        </p:blipFill>
        <p:spPr>
          <a:xfrm>
            <a:off x="4857840" y="3429000"/>
            <a:ext cx="2927160" cy="272556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0" y="49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阶跃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阶跃响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是滤波器对单位阶跃函数的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阶跃函数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[n]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阶跃响应记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求解滤波器阶跃响应的两种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5929200" y="3429000"/>
            <a:ext cx="2438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接用差分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脉冲响应之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线性滤波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5"/>
          <p:cNvSpPr/>
          <p:nvPr/>
        </p:nvSpPr>
        <p:spPr>
          <a:xfrm>
            <a:off x="5643720" y="364320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285840" y="213840"/>
            <a:ext cx="81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滤波器的阶跃响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 =0.5 y[n-1] +0.8x[n] + 0.2x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采用第一种方法直接求取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539640" y="1676520"/>
            <a:ext cx="852804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上图所示的阶跃函数输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[n]=u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[n] = s[n]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[n] = 0.5 s[n-1] + 0.8u[n] + 0.2u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Object 5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3997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287280" y="213840"/>
            <a:ext cx="8856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[0]=0.5s[-1]+0.8u[0]+0.2u[-1]=0.5*(0) + 0.8*(1) + 0.2*(0)=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[1]=0.5s[0]+0.8u[1]+0.2u[0]=0.5*(0.8) + 0.8*(1) + 0.2*(1)=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[2]=0.5s[1]+0.8u[2]+0.2u[1]=0.5*(1.4) + 0.8*(1) + 0.2*(1)=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[3]=0.5s[2]+0.8u[3]+0.2u[2]=0.5*(1.7) + 0.8*(1) + 0.2*(1)=1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[4]=0.5s[3]+0.8u[4]+0.2u[3]=0.5*(1.85) + 0.8*(1) +  0.2*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9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[5]=0.5s[4]+0.8u[5]+0.2u[4]=0.5*(1.925) + 0.8*(1) + 0.2*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9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[6]=0.5s[5]+0.8u[6]+0.2u[5]=0.5*(1.9625) + 0.8*(1) + 0.2*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98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[7]=0.5s[6]+0.8u[7]+0.2u[6]=0.5*(1.98125) + 0.8*(1) + 0.2*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990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990720" y="68544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滤波器的阶跃响应示于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Object 5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04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250920" y="0"/>
            <a:ext cx="892944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第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方法间接求取阶跃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h[n]=0.5 h[n-1] + 0.8δ[n] + 0.2δ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则可求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[0]=0.5h[-1]+0.8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0]+0.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]=0.5*(0) + 0.8*(1) + 0.2*(0)=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[1]=0.5h[0]+0.8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1]+0.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0]=0.5*(0.8) + 0.8*(0) + 0.2*(1)=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[2]=0.5h[1]+0.8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2]+0.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1]=0.5*(0.6) + 0.8*(0) + 0.2*(0)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[3]=0.5h[2]+0.8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3]+0.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2]=0.5*(0.3) + 0.8*(0) + 0.2*(0)=0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[4]=0.5h[3]+0.8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4]+0.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3]=0.5*(0.15) + 0.8*(0) + 0.2*(0)=0.0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[5]=0.5h[4]+0.8δ[5]+0.2δ[4]=0.5*(0.075) + 0.8*(0) + 0.2*(0)=0.03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[6]=0.5h[5]+0.8δ[6]+0.2δ[5]=0.5*(0.0375) + 0.8*(0) + 0.2*(0)=0.018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[7]=0.5h[6]+0.8δ[7]+0.2δ[6]=0.5*(0.01875) + 0.8*(0) + 0.2*(0)=0.0093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rcRect l="29127" t="22383" r="27042" b="55240"/>
          <a:stretch/>
        </p:blipFill>
        <p:spPr>
          <a:xfrm>
            <a:off x="0" y="1357200"/>
            <a:ext cx="8929800" cy="4929480"/>
          </a:xfrm>
          <a:prstGeom prst="rect">
            <a:avLst/>
          </a:prstGeom>
          <a:ln w="0">
            <a:noFill/>
          </a:ln>
        </p:spPr>
      </p:pic>
      <p:sp>
        <p:nvSpPr>
          <p:cNvPr id="665" name="矩形 4"/>
          <p:cNvSpPr/>
          <p:nvPr/>
        </p:nvSpPr>
        <p:spPr>
          <a:xfrm>
            <a:off x="357120" y="1429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求脉冲响应累积和计算阶跃响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果见表</a:t>
            </a: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3-3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第一种方法计算结果一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539280" y="47592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滤波器的阶数越高，它的滚降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-off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越快，也就越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近理想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增益高的频率范围，信号可以通过，称为滤波器的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通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增益低的频率范围，滤波器对信号有衰减或阻塞作用，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滤波器的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阻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增益为最大值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바탕"/>
              </a:rPr>
              <a:t>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2=0.7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对应的频率为滤波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截止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增益通常用分贝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。增益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0log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增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增益为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707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对应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此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截止频率常被称为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频率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们定义了滤波器的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带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"/>
          <p:cNvSpPr/>
          <p:nvPr/>
        </p:nvSpPr>
        <p:spPr>
          <a:xfrm>
            <a:off x="3214800" y="31431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611280" y="711360"/>
            <a:ext cx="8076960" cy="58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截止频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义了滤波器的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带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通滤波器：带宽是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 ~ -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频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通滤波器：带宽是从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频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采样频率的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带通滤波器：带宽是截止频率之间的频率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6"/>
          <p:cNvSpPr/>
          <p:nvPr/>
        </p:nvSpPr>
        <p:spPr>
          <a:xfrm>
            <a:off x="431640" y="18900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不同类型的滤波器对输入信号所起作用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低通滤波器可以平滑信号的突变，可以用于去除高频噪声干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高通滤波器则强化信号的锐变，可以用于提取边缘信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图片 191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2712960" cy="2214720"/>
          </a:xfrm>
          <a:prstGeom prst="rect">
            <a:avLst/>
          </a:prstGeom>
          <a:ln w="0">
            <a:noFill/>
          </a:ln>
        </p:spPr>
      </p:pic>
      <p:pic>
        <p:nvPicPr>
          <p:cNvPr id="472" name="图片 192" descr=""/>
          <p:cNvPicPr/>
          <p:nvPr/>
        </p:nvPicPr>
        <p:blipFill>
          <a:blip r:embed="rId2"/>
          <a:stretch/>
        </p:blipFill>
        <p:spPr>
          <a:xfrm>
            <a:off x="5072040" y="2000160"/>
            <a:ext cx="2759040" cy="1857600"/>
          </a:xfrm>
          <a:prstGeom prst="rect">
            <a:avLst/>
          </a:prstGeom>
          <a:ln w="0">
            <a:noFill/>
          </a:ln>
        </p:spPr>
      </p:pic>
      <p:pic>
        <p:nvPicPr>
          <p:cNvPr id="473" name="图片 193" descr=""/>
          <p:cNvPicPr/>
          <p:nvPr/>
        </p:nvPicPr>
        <p:blipFill>
          <a:blip r:embed="rId3"/>
          <a:stretch/>
        </p:blipFill>
        <p:spPr>
          <a:xfrm>
            <a:off x="5076720" y="4292640"/>
            <a:ext cx="2862360" cy="23623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10"/>
          <p:cNvSpPr/>
          <p:nvPr/>
        </p:nvSpPr>
        <p:spPr>
          <a:xfrm>
            <a:off x="1763640" y="486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5429160" y="39290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通滤波后波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"/>
          <p:cNvSpPr/>
          <p:nvPr/>
        </p:nvSpPr>
        <p:spPr>
          <a:xfrm>
            <a:off x="5508720" y="6524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通滤波后波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29:35Z</dcterms:created>
  <dc:creator>MS User</dc:creator>
  <dc:description/>
  <dc:language>en-US</dc:language>
  <cp:lastModifiedBy>阿皓啊</cp:lastModifiedBy>
  <dcterms:modified xsi:type="dcterms:W3CDTF">2024-10-07T07:52:47Z</dcterms:modified>
  <cp:revision>74</cp:revision>
  <dc:subject/>
  <dc:title>第 1 章     数字信号处理概述   CH1  CRASH COURSE IN DIGITERSIGNAL PROCESS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F32EAD6428743ADBB1F0F23C010359D_12</vt:lpwstr>
  </property>
  <property fmtid="{D5CDD505-2E9C-101B-9397-08002B2CF9AE}" pid="3" name="KSOProductBuildVer">
    <vt:lpwstr>2052-12.1.0.18276</vt:lpwstr>
  </property>
</Properties>
</file>